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wmf" ContentType="image/x-wmf"/>
  <Override PartName="/ppt/media/click.wav" ContentType="audio/x-wav"/>
  <Override PartName="/ppt/media/image7.png" ContentType="image/png"/>
  <Override PartName="/ppt/media/image15.wmf" ContentType="image/x-wmf"/>
  <Override PartName="/ppt/media/image12.jpeg" ContentType="image/jpeg"/>
  <Override PartName="/ppt/media/image10.wmf" ContentType="image/x-wmf"/>
  <Override PartName="/ppt/media/image2.png" ContentType="image/png"/>
  <Override PartName="/ppt/media/image19.wmf" ContentType="image/x-wmf"/>
  <Override PartName="/ppt/media/image16.gif" ContentType="image/gi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3.png" ContentType="image/png"/>
  <Override PartName="/ppt/media/image8.jpeg" ContentType="image/jpe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99075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6C27A-57D8-4E02-B1D1-DF01F4809D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218CA-D87E-4D8F-89EC-B16E0CA917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54ABC-A88C-4F7D-AAD4-DA946C3E3D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A30E4-1A12-4D7B-9AD7-D5A2C7F19D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26B32-B1AF-4FB3-A2C9-0B2A6071BF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A81CB-1B62-4030-BB5C-45E1C52332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6B832-0DF2-4940-9B5E-2FC8951C67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BA7F6-584E-47BE-8650-F16DD43B37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46211-EC18-47BB-B41D-469831486E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67AB2-780D-44CB-B914-AF53E9533A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1C602-2D58-4451-B193-AF49785B4C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D9EEB-52DC-4497-B0E3-339533FF309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724C1-AF4A-4154-804B-9B9D567A0E4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5C165-0999-4CE7-B0C3-2E90E56BA5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51DEC-49AB-4480-81F1-8717CACB598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79332-8647-4D49-9AB1-A90E6442FF7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0A38B-F7A1-4060-8578-35E846D7A3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B7C84-6372-400B-BE13-6B8535712F0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12010-1404-4C80-B6CB-0B644292CF7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E7807-FBF6-45DF-A1AC-B5BD7B72D3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4D2CA-EF6D-4432-A703-A2A5A5479E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45CEF-C31D-4923-A941-63F6BE652E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7349F-C113-4FE6-9037-FF15BE2B90C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4C7CE-8C29-4E0A-A259-848AEE1702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"/>
          <p:cNvPicPr/>
          <p:nvPr/>
        </p:nvPicPr>
        <p:blipFill>
          <a:blip r:embed="rId2"/>
          <a:stretch/>
        </p:blipFill>
        <p:spPr>
          <a:xfrm>
            <a:off x="6021360" y="669960"/>
            <a:ext cx="3122640" cy="6188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3"/>
          <a:stretch/>
        </p:blipFill>
        <p:spPr>
          <a:xfrm>
            <a:off x="0" y="6461280"/>
            <a:ext cx="9144000" cy="3967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"/>
          <p:cNvPicPr/>
          <p:nvPr/>
        </p:nvPicPr>
        <p:blipFill>
          <a:blip r:embed="rId4"/>
          <a:stretch/>
        </p:blipFill>
        <p:spPr>
          <a:xfrm>
            <a:off x="6286680" y="5929200"/>
            <a:ext cx="2585880" cy="2620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D:\ZYH\zyh\logo彩小副本.gif"/>
          <p:cNvPicPr/>
          <p:nvPr/>
        </p:nvPicPr>
        <p:blipFill>
          <a:blip r:embed="rId5"/>
          <a:stretch/>
        </p:blipFill>
        <p:spPr>
          <a:xfrm>
            <a:off x="1076400" y="1000080"/>
            <a:ext cx="1714320" cy="18576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D:\ZYH\zyh\全称英文黑色.gif"/>
          <p:cNvPicPr/>
          <p:nvPr/>
        </p:nvPicPr>
        <p:blipFill>
          <a:blip r:embed="rId6"/>
          <a:stretch/>
        </p:blipFill>
        <p:spPr>
          <a:xfrm>
            <a:off x="6286680" y="6254640"/>
            <a:ext cx="260028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1D41-0650-4172-BD4C-EA88526C6B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6021360" y="669960"/>
            <a:ext cx="3122640" cy="6188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6573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7935840" y="6381720"/>
            <a:ext cx="102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e3e3e"/>
                </a:solidFill>
                <a:latin typeface="黑体"/>
              </a:rPr>
              <a:t>北京质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D:\ZYH\zyh\logo彩小副本.gif"/>
          <p:cNvPicPr/>
          <p:nvPr/>
        </p:nvPicPr>
        <p:blipFill>
          <a:blip r:embed="rId4"/>
          <a:stretch/>
        </p:blipFill>
        <p:spPr>
          <a:xfrm>
            <a:off x="8199360" y="642960"/>
            <a:ext cx="658800" cy="714240"/>
          </a:xfrm>
          <a:prstGeom prst="rect">
            <a:avLst/>
          </a:prstGeom>
          <a:ln w="0">
            <a:noFill/>
          </a:ln>
        </p:spPr>
      </p:pic>
      <p:sp>
        <p:nvSpPr>
          <p:cNvPr id="82" name="Line 9"/>
          <p:cNvSpPr/>
          <p:nvPr/>
        </p:nvSpPr>
        <p:spPr>
          <a:xfrm>
            <a:off x="1182600" y="1557360"/>
            <a:ext cx="7961400" cy="0"/>
          </a:xfrm>
          <a:prstGeom prst="line">
            <a:avLst/>
          </a:prstGeom>
          <a:ln w="21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Num" idx="2"/>
          </p:nvPr>
        </p:nvSpPr>
        <p:spPr>
          <a:xfrm>
            <a:off x="6830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CBD2-8D24-4933-B0DD-26F4E1B9E56E}" type="slidenum">
              <a:rPr b="0" lang="zh-CN" sz="1400" spc="-1" strike="noStrike">
                <a:solidFill>
                  <a:srgbClr val="000000"/>
                </a:solidFill>
                <a:latin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wmf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743200" y="1066680"/>
            <a:ext cx="5867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黑体"/>
              </a:rPr>
              <a:t>农业综合标准化示范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黑体"/>
              </a:rPr>
              <a:t>建设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3581280"/>
            <a:ext cx="4038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北京市质量技术监督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标准化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吴惠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2014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年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月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27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9250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示范区建设的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</a:rPr>
              <a:t>目标：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（一）农业生产经营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</a:rPr>
              <a:t>标准化水平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和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</a:rPr>
              <a:t>组织化程度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有较大的提高，促进农业规模化、产业化、现代化的发展。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（二）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</a:rPr>
              <a:t>生产经营和管理者标准化意识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普遍提高，特别是农民标准化生产意识与技能明显增强，形成相对稳定的技术服务和管理队伍。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（三）农业新品种、新技术、新方法等农业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</a:rPr>
              <a:t>科技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成果的转化和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</a:rPr>
              <a:t>应用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推广能力明显增强。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（四）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</a:rPr>
              <a:t>农产品质量安全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水平明显提高，形成基本的检测手段和监测能力，能够保障食品安全。 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（五）农业生产效率、农民收入明显提高，生态环境改善，示范带动作用显著，取得良好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</a:rPr>
              <a:t>经济、社会和生态效益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8380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黑体"/>
              </a:rPr>
              <a:t>二、示范区建设工作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lick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9250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示范区建设的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</a:rPr>
              <a:t>主要任务：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实施产前、产中、产后全过程的标准化生产和管理。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8380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黑体"/>
              </a:rPr>
              <a:t>二、示范区建设工作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05320" y="3733920"/>
            <a:ext cx="2895480" cy="259056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2590560"/>
              <a:gd name="textAreaBottom" fmla="*/ 259092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43" y="0"/>
                </a:lnTo>
                <a:lnTo>
                  <a:pt x="21600" y="10800"/>
                </a:lnTo>
                <a:lnTo>
                  <a:pt x="20143" y="21600"/>
                </a:lnTo>
                <a:lnTo>
                  <a:pt x="0" y="21600"/>
                </a:lnTo>
                <a:lnTo>
                  <a:pt x="1457" y="10800"/>
                </a:lnTo>
                <a:close/>
              </a:path>
            </a:pathLst>
          </a:custGeom>
          <a:gradFill rotWithShape="0">
            <a:gsLst>
              <a:gs pos="0">
                <a:srgbClr val="465e00"/>
              </a:gs>
              <a:gs pos="100000">
                <a:srgbClr val="99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198000" tIns="46800" bIns="46800" anchor="ctr" anchorCtr="1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、加工场地环境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、加工操作规范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、产品包装材料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、质量安全标准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、分等分级、标签标识等标准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3759120"/>
            <a:ext cx="2665440" cy="2565360"/>
          </a:xfrm>
          <a:custGeom>
            <a:avLst/>
            <a:gdLst>
              <a:gd name="textAreaLeft" fmla="*/ 0 w 2665440"/>
              <a:gd name="textAreaRight" fmla="*/ 2665800 w 2665440"/>
              <a:gd name="textAreaTop" fmla="*/ 0 h 2565360"/>
              <a:gd name="textAreaBottom" fmla="*/ 2565720 h 256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30" y="0"/>
                </a:lnTo>
                <a:lnTo>
                  <a:pt x="21600" y="10800"/>
                </a:lnTo>
                <a:lnTo>
                  <a:pt x="20030" y="21600"/>
                </a:lnTo>
                <a:lnTo>
                  <a:pt x="0" y="21600"/>
                </a:lnTo>
                <a:lnTo>
                  <a:pt x="1570" y="10800"/>
                </a:lnTo>
                <a:close/>
              </a:path>
            </a:pathLst>
          </a:custGeom>
          <a:gradFill rotWithShape="0">
            <a:gsLst>
              <a:gs pos="0">
                <a:srgbClr val="2c346d"/>
              </a:gs>
              <a:gs pos="100000">
                <a:srgbClr val="6172e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198000" tIns="46800" bIns="46800" anchor="ctr" anchorCtr="1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、产地环境标准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、种质标准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、生产技术标准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、投入品合理使用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、动植物检疫防疫等标准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2862360"/>
            <a:ext cx="2438280" cy="71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c346d"/>
              </a:gs>
              <a:gs pos="100000">
                <a:srgbClr val="6172e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生产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05320" y="2860560"/>
            <a:ext cx="266688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65e00"/>
              </a:gs>
              <a:gs pos="100000">
                <a:srgbClr val="99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加工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6280" y="3759120"/>
            <a:ext cx="2665440" cy="2565360"/>
          </a:xfrm>
          <a:custGeom>
            <a:avLst/>
            <a:gdLst>
              <a:gd name="textAreaLeft" fmla="*/ 0 w 2665440"/>
              <a:gd name="textAreaRight" fmla="*/ 2665800 w 2665440"/>
              <a:gd name="textAreaTop" fmla="*/ 0 h 2565360"/>
              <a:gd name="textAreaBottom" fmla="*/ 2565720 h 256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36" y="0"/>
                </a:lnTo>
                <a:lnTo>
                  <a:pt x="21600" y="10800"/>
                </a:lnTo>
                <a:lnTo>
                  <a:pt x="20236" y="21600"/>
                </a:lnTo>
                <a:lnTo>
                  <a:pt x="0" y="21600"/>
                </a:lnTo>
                <a:lnTo>
                  <a:pt x="1364" y="10800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198000" tIns="46800" bIns="46800" anchor="ctr" anchorCtr="1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、服务规范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、服务提供规范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、质量控制规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05400" y="2862360"/>
            <a:ext cx="2457720" cy="71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观光休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lick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66680" y="1676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黑体"/>
              </a:rPr>
              <a:t>任务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3733920"/>
            <a:ext cx="1744560" cy="160020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标准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4419720"/>
            <a:ext cx="2057400" cy="20174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990000"/>
                </a:solidFill>
                <a:uFillTx/>
                <a:latin typeface="黑体"/>
              </a:rPr>
              <a:t>监督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监测体系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持续改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辐射带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1676520"/>
            <a:ext cx="2057400" cy="2057400"/>
          </a:xfrm>
          <a:prstGeom prst="ellips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990000"/>
                </a:solidFill>
                <a:uFillTx/>
                <a:latin typeface="黑体"/>
              </a:rPr>
              <a:t>制定标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建立标准体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4343400"/>
            <a:ext cx="1981440" cy="1981080"/>
          </a:xfrm>
          <a:prstGeom prst="ellips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990000"/>
                </a:solidFill>
                <a:uFillTx/>
                <a:latin typeface="黑体"/>
              </a:rPr>
              <a:t>实施标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培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配套措施生产管理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记录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8310800">
            <a:off x="3333600" y="3752280"/>
            <a:ext cx="1081080" cy="433440"/>
          </a:xfrm>
          <a:custGeom>
            <a:avLst/>
            <a:gdLst>
              <a:gd name="textAreaLeft" fmla="*/ 168840 w 1081080"/>
              <a:gd name="textAreaRight" fmla="*/ 975240 w 1081080"/>
              <a:gd name="textAreaTop" fmla="*/ 136440 h 433440"/>
              <a:gd name="textAreaBottom" fmla="*/ 297000 h 433440"/>
            </a:gdLst>
            <a:ahLst/>
            <a:rect l="textAreaLeft" t="textAreaTop" r="textAreaRight" b="textAreaBottom"/>
            <a:pathLst>
              <a:path w="21600" h="21600">
                <a:moveTo>
                  <a:pt x="3375" y="6804"/>
                </a:moveTo>
                <a:lnTo>
                  <a:pt x="15879" y="6804"/>
                </a:lnTo>
                <a:lnTo>
                  <a:pt x="15879" y="0"/>
                </a:lnTo>
                <a:lnTo>
                  <a:pt x="21600" y="10800"/>
                </a:lnTo>
                <a:lnTo>
                  <a:pt x="15879" y="21600"/>
                </a:lnTo>
                <a:lnTo>
                  <a:pt x="15879" y="14796"/>
                </a:lnTo>
                <a:lnTo>
                  <a:pt x="3375" y="14796"/>
                </a:lnTo>
                <a:close/>
              </a:path>
              <a:path w="21600" h="21600">
                <a:moveTo>
                  <a:pt x="0" y="6804"/>
                </a:moveTo>
                <a:lnTo>
                  <a:pt x="675" y="6804"/>
                </a:lnTo>
                <a:lnTo>
                  <a:pt x="675" y="14796"/>
                </a:lnTo>
                <a:lnTo>
                  <a:pt x="0" y="14796"/>
                </a:lnTo>
                <a:close/>
              </a:path>
              <a:path w="21600" h="21600">
                <a:moveTo>
                  <a:pt x="1350" y="6804"/>
                </a:moveTo>
                <a:lnTo>
                  <a:pt x="2700" y="6804"/>
                </a:lnTo>
                <a:lnTo>
                  <a:pt x="2700" y="14796"/>
                </a:lnTo>
                <a:lnTo>
                  <a:pt x="1350" y="14796"/>
                </a:lnTo>
                <a:close/>
              </a:path>
            </a:pathLst>
          </a:custGeom>
          <a:solidFill>
            <a:srgbClr val="617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8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3267000">
            <a:off x="5162400" y="3752640"/>
            <a:ext cx="1081080" cy="433440"/>
          </a:xfrm>
          <a:custGeom>
            <a:avLst/>
            <a:gdLst>
              <a:gd name="textAreaLeft" fmla="*/ 168840 w 1081080"/>
              <a:gd name="textAreaRight" fmla="*/ 975240 w 1081080"/>
              <a:gd name="textAreaTop" fmla="*/ 136440 h 433440"/>
              <a:gd name="textAreaBottom" fmla="*/ 297000 h 433440"/>
            </a:gdLst>
            <a:ahLst/>
            <a:rect l="textAreaLeft" t="textAreaTop" r="textAreaRight" b="textAreaBottom"/>
            <a:pathLst>
              <a:path w="21600" h="21600">
                <a:moveTo>
                  <a:pt x="3375" y="6804"/>
                </a:moveTo>
                <a:lnTo>
                  <a:pt x="15879" y="6804"/>
                </a:lnTo>
                <a:lnTo>
                  <a:pt x="15879" y="0"/>
                </a:lnTo>
                <a:lnTo>
                  <a:pt x="21600" y="10800"/>
                </a:lnTo>
                <a:lnTo>
                  <a:pt x="15879" y="21600"/>
                </a:lnTo>
                <a:lnTo>
                  <a:pt x="15879" y="14796"/>
                </a:lnTo>
                <a:lnTo>
                  <a:pt x="3375" y="14796"/>
                </a:lnTo>
                <a:close/>
              </a:path>
              <a:path w="21600" h="21600">
                <a:moveTo>
                  <a:pt x="0" y="6804"/>
                </a:moveTo>
                <a:lnTo>
                  <a:pt x="675" y="6804"/>
                </a:lnTo>
                <a:lnTo>
                  <a:pt x="675" y="14796"/>
                </a:lnTo>
                <a:lnTo>
                  <a:pt x="0" y="14796"/>
                </a:lnTo>
                <a:close/>
              </a:path>
              <a:path w="21600" h="21600">
                <a:moveTo>
                  <a:pt x="1350" y="6804"/>
                </a:moveTo>
                <a:lnTo>
                  <a:pt x="2700" y="6804"/>
                </a:lnTo>
                <a:lnTo>
                  <a:pt x="2700" y="14796"/>
                </a:lnTo>
                <a:lnTo>
                  <a:pt x="1350" y="14796"/>
                </a:lnTo>
                <a:close/>
              </a:path>
            </a:pathLst>
          </a:custGeom>
          <a:solidFill>
            <a:srgbClr val="617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8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4038480" y="5510160"/>
            <a:ext cx="1371600" cy="433440"/>
          </a:xfrm>
          <a:custGeom>
            <a:avLst/>
            <a:gdLst>
              <a:gd name="textAreaLeft" fmla="*/ 214200 w 1371600"/>
              <a:gd name="textAreaRight" fmla="*/ 1237320 w 1371600"/>
              <a:gd name="textAreaTop" fmla="*/ 136440 h 433440"/>
              <a:gd name="textAreaBottom" fmla="*/ 297000 h 433440"/>
            </a:gdLst>
            <a:ahLst/>
            <a:rect l="textAreaLeft" t="textAreaTop" r="textAreaRight" b="textAreaBottom"/>
            <a:pathLst>
              <a:path w="21600" h="21600">
                <a:moveTo>
                  <a:pt x="3375" y="6804"/>
                </a:moveTo>
                <a:lnTo>
                  <a:pt x="15879" y="6804"/>
                </a:lnTo>
                <a:lnTo>
                  <a:pt x="15879" y="0"/>
                </a:lnTo>
                <a:lnTo>
                  <a:pt x="21600" y="10800"/>
                </a:lnTo>
                <a:lnTo>
                  <a:pt x="15879" y="21600"/>
                </a:lnTo>
                <a:lnTo>
                  <a:pt x="15879" y="14796"/>
                </a:lnTo>
                <a:lnTo>
                  <a:pt x="3375" y="14796"/>
                </a:lnTo>
                <a:close/>
              </a:path>
              <a:path w="21600" h="21600">
                <a:moveTo>
                  <a:pt x="0" y="6804"/>
                </a:moveTo>
                <a:lnTo>
                  <a:pt x="675" y="6804"/>
                </a:lnTo>
                <a:lnTo>
                  <a:pt x="675" y="14796"/>
                </a:lnTo>
                <a:lnTo>
                  <a:pt x="0" y="14796"/>
                </a:lnTo>
                <a:close/>
              </a:path>
              <a:path w="21600" h="21600">
                <a:moveTo>
                  <a:pt x="1350" y="6804"/>
                </a:moveTo>
                <a:lnTo>
                  <a:pt x="2700" y="6804"/>
                </a:lnTo>
                <a:lnTo>
                  <a:pt x="2700" y="14796"/>
                </a:lnTo>
                <a:lnTo>
                  <a:pt x="1350" y="14796"/>
                </a:lnTo>
                <a:close/>
              </a:path>
            </a:pathLst>
          </a:custGeom>
          <a:solidFill>
            <a:srgbClr val="617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8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8380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黑体"/>
              </a:rPr>
              <a:t>二、示范区建设工作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lick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43000" y="8380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黑体"/>
              </a:rPr>
              <a:t>二、示范区建设工作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副标题 2"/>
          <p:cNvSpPr/>
          <p:nvPr/>
        </p:nvSpPr>
        <p:spPr>
          <a:xfrm>
            <a:off x="1143000" y="1600200"/>
            <a:ext cx="8001000" cy="5029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时间节点（计划执行时间：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2014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年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-2016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（一）启动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4393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2014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年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3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月底前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，完成项目启动工作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、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成立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领导小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组成：地方政府分管领导任组长，农林、质监等有关部门领导参加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;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或企业、合作组织负责人任组长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,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相关参与方领导参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职责：负责示范区建设的组织协调和整体管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主要任务：组织制定示范区的实施方案和年度实施计划；协调部门分工，督促任务落实；组织检查，开展监督，抓指导、抓协调、抓落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下设办公室：负责处理示范区的日常事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2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、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成立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技术小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负责示范区建设的标准化技术工作，具体承担指导示范区建设工作，解决示范区建设过程中的技术问题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lick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43000" y="8380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黑体"/>
              </a:rPr>
              <a:t>二、示范区建设工作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副标题 2"/>
          <p:cNvSpPr/>
          <p:nvPr/>
        </p:nvSpPr>
        <p:spPr>
          <a:xfrm>
            <a:off x="1295280" y="1676520"/>
            <a:ext cx="7634520" cy="41148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3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、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建立部门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协调机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如：联席会议制度，例会制度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4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、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制定并印发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“实施方案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组织机构、职责分工及责任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示范目标任务及分年度或分阶段的具体计划安排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采取的配套措施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硬件、技术、管理、经费等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5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、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召开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动员部署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会议，正式启动工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部署示范区项目的目标任务和各阶段工作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明确职责和责任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宣布有关制度和措施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提出建设工作要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913360" y="4648320"/>
            <a:ext cx="3230640" cy="22096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lick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683244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48C7-671B-44EB-92DB-CC3FA4B1ED1B}" type="slidenum"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副标题 2"/>
          <p:cNvSpPr/>
          <p:nvPr/>
        </p:nvSpPr>
        <p:spPr>
          <a:xfrm>
            <a:off x="1182600" y="1746360"/>
            <a:ext cx="7777080" cy="41972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（二）标准体系建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b4393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2014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年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4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月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-7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月，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完成标准体系框架搭建工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月，收集与整理相关资料，包括：国家、行业、地方标准，企业标准、制度，有关法规文件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月，分析综合标准化目标，综合考虑全过程全产业链实际需求，搭建标准体系框架，编制标准体系结构图和标准明细表（草案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月，向市质监局提交标准体系结构图和标准明细表。市质监局组织专家诊断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月，根据专家诊断意见进行修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8380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黑体"/>
              </a:rPr>
              <a:t>二、示范区建设工作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lick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683244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6356-6DD3-4F47-BED2-B671D71B2BF2}" type="slidenum"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副标题 2"/>
          <p:cNvSpPr/>
          <p:nvPr/>
        </p:nvSpPr>
        <p:spPr>
          <a:xfrm>
            <a:off x="1219320" y="1676520"/>
            <a:ext cx="7924680" cy="36576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b4393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2014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年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8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月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-12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月，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编写企业标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月，组织编写标准培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明确编写标准分工，统一编写要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9-12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月，编写企业标准（草案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要注意协调配套，符合实际，简明易懂，可操作性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b4393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2014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年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11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月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     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各示范区承担单位提交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年度总结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    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(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年度计划完成情况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;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主要工作内容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;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取得的成效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;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下一年度计划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     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市质监局组织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年度考核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8380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黑体"/>
              </a:rPr>
              <a:t>二、示范区建设工作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934320" y="4773600"/>
            <a:ext cx="2209680" cy="20844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lick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683244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79C7-5EF6-407C-9C4F-819BC48FCEA1}" type="slidenum"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副标题 2"/>
          <p:cNvSpPr/>
          <p:nvPr/>
        </p:nvSpPr>
        <p:spPr>
          <a:xfrm>
            <a:off x="1219320" y="175248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4393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2015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年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月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-6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月，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审批发布企业标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1-3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月，征求意见、修改，领导小组初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月，市质监局组织专家诊断关键标准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月，根据专家诊断意见进行修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月，组织标准审查，批准发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8380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黑体"/>
              </a:rPr>
              <a:t>二、示范区建设工作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324480" y="4199040"/>
            <a:ext cx="2819520" cy="26589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lick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683244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731F-C464-4244-BFF4-C3461430FC68}" type="slidenum"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副标题 2"/>
          <p:cNvSpPr/>
          <p:nvPr/>
        </p:nvSpPr>
        <p:spPr>
          <a:xfrm>
            <a:off x="1219320" y="1676520"/>
            <a:ext cx="7924680" cy="42670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（三）组织标准实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4393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2015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年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7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月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-12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月，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标准宣贯实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  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、组织标准宣传、培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宣传栏、标准明示上墙；开展宣传活动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   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印制发放宣传资料；利用媒体宣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集中培训；田间操作培训；示范演示，现场观摩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  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2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、实施统一管理，统一技术服务（“几统一”）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     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做好各种记录。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</a:rPr>
              <a:t>、规范记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4393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2015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年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11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月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各示范区承担单位提交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  <a:ea typeface="黑体"/>
              </a:rPr>
              <a:t>年度总结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市质监局组织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  <a:ea typeface="黑体"/>
              </a:rPr>
              <a:t>年度考核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8380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黑体"/>
              </a:rPr>
              <a:t>二、示范区建设工作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300720" y="4724280"/>
            <a:ext cx="2843280" cy="20494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lick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683244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52BC-B7FD-4858-8B45-E1109C0CAD08}" type="slidenum"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副标题 2"/>
          <p:cNvSpPr/>
          <p:nvPr/>
        </p:nvSpPr>
        <p:spPr>
          <a:xfrm>
            <a:off x="1219320" y="1752480"/>
            <a:ext cx="7772400" cy="42735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（四）监督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4393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2016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年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月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-6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月，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开展标准实施情况的监督检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       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通过标准执行情况的监督检查，及时发现示范区建设过程中存在的问题，改进完善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产前： 产地环境监测；投入品检查与控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产中： 生产过程关键控制点的监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产后： 产品质量安全抽测；分级、包装、贮存的抽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8380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黑体"/>
              </a:rPr>
              <a:t>二、示范区建设工作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486400" y="5029200"/>
            <a:ext cx="1676520" cy="15462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895480" y="4876920"/>
            <a:ext cx="1739880" cy="17143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lic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371600" y="1904760"/>
            <a:ext cx="73152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黑体"/>
              </a:rPr>
              <a:t>一、示范区基本情况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黑体"/>
              </a:rPr>
              <a:t>二、第八批农业综合标准化示范区建设工作要求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5" name="标题 1"/>
          <p:cNvSpPr/>
          <p:nvPr/>
        </p:nvSpPr>
        <p:spPr>
          <a:xfrm>
            <a:off x="1238400" y="857160"/>
            <a:ext cx="228096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黑体"/>
              </a:rPr>
              <a:t>提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lick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683244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813D-FFE5-4B28-9DF4-822CA6E4CBD9}" type="slidenum"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副标题 2"/>
          <p:cNvSpPr/>
          <p:nvPr/>
        </p:nvSpPr>
        <p:spPr>
          <a:xfrm>
            <a:off x="1219320" y="1676520"/>
            <a:ext cx="7772400" cy="48765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（五）全面总结及考核（验收）准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4393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2016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年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7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月，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完成自查总结和考核准备工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、汇总统计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调查汇总情况；进行统计分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2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、自查打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按照《国家农业标准化示范区项目目标考核评价表》，对照进行自查打分；发现问题，及时改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3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、撰写总结报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2060"/>
                </a:solidFill>
                <a:latin typeface="黑体"/>
                <a:ea typeface="黑体"/>
              </a:rPr>
              <a:t>前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2060"/>
                </a:solidFill>
                <a:latin typeface="黑体"/>
                <a:ea typeface="黑体"/>
              </a:rPr>
              <a:t>一、计划目标任务及实际完成情况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2060"/>
                </a:solidFill>
                <a:latin typeface="黑体"/>
                <a:ea typeface="黑体"/>
              </a:rPr>
              <a:t>二、具体实施过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2060"/>
                </a:solidFill>
                <a:latin typeface="黑体"/>
                <a:ea typeface="黑体"/>
              </a:rPr>
              <a:t>三、取得的成效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2060"/>
                </a:solidFill>
                <a:latin typeface="黑体"/>
                <a:ea typeface="黑体"/>
              </a:rPr>
              <a:t>四、经验与体会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2060"/>
                </a:solidFill>
                <a:latin typeface="黑体"/>
                <a:ea typeface="黑体"/>
              </a:rPr>
              <a:t>五、创新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2060"/>
                </a:solidFill>
                <a:latin typeface="黑体"/>
                <a:ea typeface="黑体"/>
              </a:rPr>
              <a:t>六、打算与建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8380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黑体"/>
              </a:rPr>
              <a:t>二、示范区建设工作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019920" y="5049720"/>
            <a:ext cx="3124080" cy="18082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lick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683244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0225-F421-403C-8D53-5B9FB692A6CF}" type="slidenum"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副标题 2"/>
          <p:cNvSpPr/>
          <p:nvPr/>
        </p:nvSpPr>
        <p:spPr>
          <a:xfrm>
            <a:off x="1219320" y="1676520"/>
            <a:ext cx="7772400" cy="49528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4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、准备考核材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 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（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）按照《考核评价表》的要求，逐项准备考核材料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,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分类整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 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（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2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）编制考核资料汇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把各项管理制度、政策措施等有关文件、实施方案、工作总结、相关记录、效益情况、标准体系等材料汇编成册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总结、展示、保留、传承示范区的建设经验和成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5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、提出考核申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（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）提交考核申请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（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）提交示范区总结报告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（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）自查打分表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（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）示范区目标考核信息表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（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）标准实施推广目录清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8380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黑体"/>
              </a:rPr>
              <a:t>二、示范区建设工作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324480" y="4683240"/>
            <a:ext cx="2819520" cy="1800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lick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683244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EB16-3F01-40AA-BEEC-24E945301307}" type="slidenum"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副标题 2"/>
          <p:cNvSpPr/>
          <p:nvPr/>
        </p:nvSpPr>
        <p:spPr>
          <a:xfrm>
            <a:off x="1219320" y="1752480"/>
            <a:ext cx="7543800" cy="48769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（六）目标考核（验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b4393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2016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年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8-10</a:t>
            </a: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月，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市质监局组织对示范区进行目标考核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考核评估程序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、宣布目标考核组成员、目标考核工作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、听取示范区工作汇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、现场考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、查阅相关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、打分并提出考核结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、考核组通报考核情况及结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、领导讲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43000" y="8380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黑体"/>
              </a:rPr>
              <a:t>二、示范区建设工作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800760" y="3049560"/>
            <a:ext cx="2343240" cy="38084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lick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19320" y="160020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2060"/>
                </a:solidFill>
                <a:latin typeface="黑体"/>
              </a:rPr>
              <a:t>工作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步骤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2133720"/>
            <a:ext cx="1600200" cy="4968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启动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17600" y="2895480"/>
            <a:ext cx="1577880" cy="533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标准体系建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3657600"/>
            <a:ext cx="1600200" cy="533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组织标准实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4419720"/>
            <a:ext cx="1600200" cy="533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监督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5181480"/>
            <a:ext cx="1600200" cy="533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自查总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95280" y="5943600"/>
            <a:ext cx="1600200" cy="533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考核验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1879560"/>
            <a:ext cx="5486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成立领导小组；技术小组；建立协调机制；制定实施方案；召开部署会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52680" y="2793960"/>
            <a:ext cx="5486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标准体系结构图；标准明细表；标准编写、征求意见、审批发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52680" y="3733920"/>
            <a:ext cx="5486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宣传；培训；统一管理与技术服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52680" y="4470480"/>
            <a:ext cx="5486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检查；抽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5181480"/>
            <a:ext cx="5486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自查；撰写总结报告；准备考核材料；提出考核申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33720" y="2666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33720" y="342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33720" y="4191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3372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33720" y="5715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954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9548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9548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9548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9548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8380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黑体"/>
              </a:rPr>
              <a:t>二、示范区建设工作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lick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683244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8857-0C24-4F1D-BB14-565452C59F2F}" type="slidenum"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副标题 2"/>
          <p:cNvSpPr/>
          <p:nvPr/>
        </p:nvSpPr>
        <p:spPr>
          <a:xfrm>
            <a:off x="1219320" y="1628640"/>
            <a:ext cx="7772400" cy="50007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工作要求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4393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承担单位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（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）加强领导，制定实施方案，落实责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（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）分析目标，结合自身实际，突出特色和优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（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）加强统一管理，统一技术服务，发挥龙头带动作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（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）注重标准实施，加强工作考核，持续改进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4393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主管部门区县局：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（市园林绿化局；海淀、门头沟、房山、通州、昌平、平谷、密云、延庆质监局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（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）加强对示范项目的督促和检查指导，督促工作进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（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）加强与有关部门的联络与协调配合，沟通情况及问题，注意发现亮点、总结经验，反馈信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4393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43936"/>
                </a:solidFill>
                <a:latin typeface="黑体"/>
              </a:rPr>
              <a:t>市标准化研究院、北京标准化协会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配合市质监局做好标准培训和检查工作。按照承担单位的需求，积极做好标准化咨询服务工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8380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黑体"/>
              </a:rPr>
              <a:t>二、示范区建设工作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lick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057400" y="2057400"/>
            <a:ext cx="41911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！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9" name=""/>
          <p:cNvSpPr/>
          <p:nvPr/>
        </p:nvSpPr>
        <p:spPr>
          <a:xfrm>
            <a:off x="2133720" y="4648320"/>
            <a:ext cx="5410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吴惠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联系电话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752 0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邮箱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whm@bjtsb.gov.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276720" y="2203560"/>
            <a:ext cx="5867280" cy="45147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143000" y="8380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黑体"/>
              </a:rPr>
              <a:t>一、示范区基本情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1711440"/>
            <a:ext cx="769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1995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年开始，全国开展了“农业标准化示范区”建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到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2013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全国国家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示范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</a:rPr>
              <a:t>3804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我市国家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示范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87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914400" y="1981080"/>
          <a:ext cx="8229600" cy="493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81080"/>
                    <a:ext cx="8229600" cy="49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066680" y="16002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1995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年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-2013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年共建设七批示范区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(</a:t>
            </a:r>
            <a:r>
              <a:rPr b="1" lang="zh-CN" sz="1800" spc="-1" strike="noStrike">
                <a:solidFill>
                  <a:srgbClr val="990000"/>
                </a:solidFill>
                <a:latin typeface="Arial"/>
              </a:rPr>
              <a:t>87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个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8380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黑体"/>
              </a:rPr>
              <a:t>一、示范区基本情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762120" y="1600200"/>
          <a:ext cx="838188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83818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1143000" y="8380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黑体"/>
              </a:rPr>
              <a:t>一、示范区基本情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924680" cy="5257800"/>
          </a:xfrm>
          <a:prstGeom prst="rect">
            <a:avLst/>
          </a:prstGeom>
          <a:ln w="0">
            <a:noFill/>
          </a:ln>
        </p:spPr>
      </p:pic>
      <p:sp>
        <p:nvSpPr>
          <p:cNvPr id="137" name="副标题 2"/>
          <p:cNvSpPr/>
          <p:nvPr/>
        </p:nvSpPr>
        <p:spPr>
          <a:xfrm>
            <a:off x="380880" y="5416560"/>
            <a:ext cx="8785440" cy="14414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通过推行农业标准化，我市农业标准化示范区覆盖面积达</a:t>
            </a:r>
            <a:r>
              <a:rPr b="1" lang="zh-CN" sz="1800" spc="-1" strike="noStrike">
                <a:solidFill>
                  <a:srgbClr val="990000"/>
                </a:solidFill>
                <a:latin typeface="Arial"/>
              </a:rPr>
              <a:t>8.9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万公顷，带动农户</a:t>
            </a:r>
            <a:r>
              <a:rPr b="1" lang="zh-CN" sz="1800" spc="-1" strike="noStrike">
                <a:solidFill>
                  <a:srgbClr val="990000"/>
                </a:solidFill>
                <a:latin typeface="Arial"/>
              </a:rPr>
              <a:t>30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万户，实现经济效益累计</a:t>
            </a:r>
            <a:r>
              <a:rPr b="1" lang="zh-CN" sz="1800" spc="-1" strike="noStrike">
                <a:solidFill>
                  <a:srgbClr val="990000"/>
                </a:solidFill>
                <a:latin typeface="Arial"/>
              </a:rPr>
              <a:t>51.9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亿元。农业标准化促进了农业产业化发展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,</a:t>
            </a:r>
            <a:r>
              <a:rPr b="1" lang="zh-CN" sz="2000" spc="-1" strike="noStrike">
                <a:solidFill>
                  <a:srgbClr val="002060"/>
                </a:solidFill>
                <a:latin typeface="黑体"/>
              </a:rPr>
              <a:t>提高了农产品质量安全水平，改善了生态环境，促进了第一产业与二、三产业的相互融合和渗透，实现了农业增效、农民增收，促进了都市型现代农业发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8380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黑体"/>
              </a:rPr>
              <a:t>一、示范区基本情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lick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219320" y="17226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2013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年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12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月，国家标准委印发《关于下达第八批国家农业综合标准化示范项目的通知》（国标委农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[2013]91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批准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386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个项目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其中：北京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</a:rPr>
              <a:t>10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项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计划执行时间：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</a:rPr>
              <a:t>2014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</a:rPr>
              <a:t>年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</a:rPr>
              <a:t>-2016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</a:rPr>
              <a:t>年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年度检查：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</a:rPr>
              <a:t>2014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</a:rPr>
              <a:t>年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</a:rPr>
              <a:t>11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</a:rPr>
              <a:t>月， 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</a:rPr>
              <a:t>2015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</a:rPr>
              <a:t>年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</a:rPr>
              <a:t>11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</a:rPr>
              <a:t>月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目标考核（验收）：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</a:rPr>
              <a:t>2016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</a:rPr>
              <a:t>年下半年，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安排在收获期。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8380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黑体"/>
              </a:rPr>
              <a:t>二、示范区建设工作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lick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43000" y="8380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黑体"/>
              </a:rPr>
              <a:t>二、示范区建设工作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546200"/>
          <a:ext cx="8458200" cy="5159520"/>
        </p:xfrm>
        <a:graphic>
          <a:graphicData uri="http://schemas.openxmlformats.org/drawingml/2006/table">
            <a:tbl>
              <a:tblPr/>
              <a:tblGrid>
                <a:gridCol w="3929040"/>
                <a:gridCol w="2928960"/>
                <a:gridCol w="16002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项目名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项目承担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主管部门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区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国家酿酒葡萄综合标准化示范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北京市房山区葡萄与葡萄酒协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房山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国家蔬菜种植综合标准化示范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北京北菜园农产品产销专业合作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延庆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国家观光休闲农业综合标准化示范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北京市海淀区四季青镇农业综合服务中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海淀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国家蜂业综合标准化示范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北京京纯养蜂专业合作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密云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国家水产养殖技术服务综合标准化示范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北京利澳聚德水产养殖专业合作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平谷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国家樱桃栽培综合标准化示范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北京市昌平区园林绿化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昌平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国家蜂业产业化综合标准化示范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绿纯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北京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生物科技发展中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门头沟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国家物联网农业园综合标准化示范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北京金福艺农农业科技集团有限公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通州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国家森林多功能经营综合标准化示范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北京市西山试验林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市园林绿化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国家蔬菜产销综合标准化示范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北京康顺达农业科技有限公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密云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  <p:sndAc>
      <p:stSnd>
        <p:snd r:embed="rId1" name="click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43000" y="8380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黑体"/>
              </a:rPr>
              <a:t>二、示范区建设工作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4038480" cy="52578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42640" y="1798200"/>
            <a:ext cx="38098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黑体"/>
              </a:rPr>
              <a:t>《国家农业标准化示范区管理办法（试行）》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（国家标准化管理委员会 国标委农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[2007]81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号）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黑体"/>
              </a:rPr>
              <a:t>示范区——是以实施农业标准为主，具有一定规模、管理规范、标准化水平较高，对周边和其它相关产业生产起示范带动作用的标准化生产区域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>
    <p:random/>
    <p:sndAc>
      <p:stSnd>
        <p:snd r:embed="rId2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作者</cp:lastModifiedBy>
  <dcterms:modified xsi:type="dcterms:W3CDTF">2014-02-27T04:26:45Z</dcterms:modified>
  <cp:revision>20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