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64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0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2400" cy="339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0488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B96-B1A8-4335-BAF0-A945A947157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2400" cy="3399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0488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objective of this sharing session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To learn more about the incidence of foodborne illness due to 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To learn ways to reduce our exposure to harmful microbes and pestic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To decide whether organic foods are preferable to conventionally grown fo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433-42A8-4C1B-833D-34F2F7E0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425-6CB7-49CA-9C8D-6855218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74F-95EA-45B4-94AF-5651A5E0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F71-E0CB-4D1E-9FAF-A407ADB6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51D-B73D-4B4D-90A5-26C3B31D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2AF-1BBC-4731-B437-3B8C64BB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17E-122E-488D-81EE-7CD424F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428-8FDA-42F9-9732-EEFF830B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50B-4AC1-4F48-95C6-D19F18B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D41-58D7-4CDE-B456-C7948987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F7A-AC92-47FA-A0D2-EC10AE2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4DF-4C7C-4961-BAA4-AA82DE0A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19080"/>
            <a:ext cx="9125280" cy="681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0962-B972-4625-992D-C8477588C53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D42-AAD2-4DD0-A2B0-A1D8568E56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0840;&#31243;&#36136;&#37327;&#25511;&#21046;&#26631;&#20934;.doc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39135;&#21697;&#23433;&#20840;&#35780;&#20272;&#20307;&#31995;.do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9289;&#27969;&#26631;&#20934;.do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92;&#20135;&#21697;&#21152;&#24037;&#19982;&#29289;&#27969;&#26631;&#20934;&#21270;&#20869;&#28085;.doc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5512;&#36827;&#20892;&#20135;&#21697;&#21152;&#24037;&#19982;&#29289;&#27969;&#26631;&#20934;&#21270;&#30340;&#24847;&#20041;.doc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0892;&#20135;&#21697;&#21152;&#24037;&#29289;&#27969;&#21160;&#26631;&#20934;&#20307;&#31995;.doc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2269;&#38469;&#20892;&#20135;&#21697;&#21152;&#24037;&#26631;&#20934;&#29616;&#29366;&#21450;&#29305;&#28857;.doc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5105;&#22269;&#20892;&#20135;&#21697;&#21152;&#24037;&#26631;&#20934;&#29616;&#29366;&#19982;&#23384;&#22312;&#38382;&#39064;.doc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20892;&#20135;&#21697;&#21152;&#24037;&#19982;&#29289;&#27969;&#26631;&#20934;&#30340;&#23454;&#26045;&#19982;&#31649;&#29702;.doc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农产品加工与物流标准化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2895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张德权 博士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28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隶书"/>
                <a:ea typeface="隶书"/>
              </a:rPr>
              <a:t>中国农业科学院农产品加工研究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2732040" cy="273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449568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资料依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十五”国家重大科技专项“农产品加工 标准体系与全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质量控制体系研究与示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农业部“国际农产品加工标准跟踪平台建设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E33-D795-4F83-B34A-CE0B66BD67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A81CC-130D-45BC-A5BC-051BCF5A0F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13413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科技水平还比较落后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我国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80%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处于世界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年代的水平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约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15%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居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90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年代水平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只有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5%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左右达到目前国际先进水平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全国食品加工企业职工中，大中专毕业生只占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1.5%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左右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879-CAD0-46B4-A891-0A009AA3E2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F5B03-21DC-43D2-BC0E-2A2923F3FF7F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13413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资源综合利用水平低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原料综合利用率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发达国家达到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80%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以上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我国不足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30%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165-AEF0-40BA-AF6B-DAED73076A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4B1C7-4A94-4B4D-8CAB-F58B1C7A19D7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物流技术水平低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流设施手段相对落后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尚未建立冷链系统的物流体系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流成本偏高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流成本占到食品成本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高于国际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流损失率高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果蔬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20%~30%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以上高于发达国家的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5%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粮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高于发达国家的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1%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肉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%~15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于发达国家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方物流发展滞后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300-69E0-4EE0-A70E-196B6BF416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6C5B4-E1D8-42D7-A5E4-60576EEA67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904760" y="2666520"/>
            <a:ext cx="6095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国已制定农产品加工与物流国家和行业标准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项，但没有建立标准体系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原因分析：</a:t>
            </a:r>
            <a:r>
              <a:rPr b="0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标准体系不健全</a:t>
            </a:r>
            <a:br>
              <a:rPr sz="3600"/>
            </a:b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550-11C9-4D24-BDAF-0E141B8D79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54979-63DA-4052-B6A0-D1AA98FA2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1828800"/>
            <a:ext cx="5486400" cy="457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call 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）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Georgia"/>
                <a:ea typeface="黑体"/>
                <a:hlinkClick r:id="rId1"/>
              </a:rPr>
              <a:t>全程质量控制标准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from farm to tabl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981080"/>
            <a:ext cx="4648320" cy="358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环境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O14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2133720"/>
            <a:ext cx="3886200" cy="28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S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AC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O9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286000"/>
            <a:ext cx="152424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PV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ACA-5E84-4819-ABFA-63E7440598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BFFEB-75B0-4892-B3F5-9A5C39C52916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黑体"/>
              </a:rPr>
              <a:t>）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Georgia"/>
                <a:ea typeface="黑体"/>
                <a:hlinkClick r:id="rId1"/>
              </a:rPr>
              <a:t>风险评估标准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057400"/>
            <a:ext cx="2133720" cy="2133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风险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2286000" cy="2133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风险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191120"/>
            <a:ext cx="2743200" cy="243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sk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风险交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962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9200" y="388620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1240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D6B-276E-4004-9374-E2BFEF827B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EFA26-56B0-4CEC-8D90-7E2EB4FE9C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）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Georgia"/>
                <a:ea typeface="黑体"/>
                <a:hlinkClick r:id="rId1"/>
              </a:rPr>
              <a:t>物流配送标准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886200" cy="2771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0" y="266688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物流技术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物流服务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物流企业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69D-353F-49A6-99CF-5EA4415D18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20D2D-4E2C-45B6-9A05-92E26DDD87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（二）推进农产品加工与物流标准化的意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ccff"/>
                </a:solidFill>
                <a:uFillTx/>
                <a:latin typeface="Georgia"/>
                <a:ea typeface="宋体"/>
                <a:hlinkClick r:id="rId1"/>
              </a:rPr>
              <a:t>1.农产品加工与物流标准内涵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）标准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）标准化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）标准体系和标准体系表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）农产品加工与物流标准化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）农产品加工与物流标准体系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A73-E1AC-43F2-907F-9E386C6E6D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46C1D-FF0B-40C3-A41B-B7928179B4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2.推进农产品加工与物流标准化的意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是提高农业国际竞争力的重要技术保障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是保障消费者健康和安全的关键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是实现农业产业结构调整的重要手段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是国家监督管理、规范市场秩序的重要依据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8A2-79C5-43BF-A365-62B97EAEE7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A67AD-1343-4964-8D7A-3229B40993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二、农产品加工与物流标准体系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农产品加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与物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标准体系结构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农产品加工与物流标准体系框架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三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我国主要农产品加工标准体系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62A-48FA-4EE0-AEAC-4105E69250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2BBB3-8E0E-4EF3-9102-79D5893D3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内容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81952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一、推进农产品加工与物流标准化的意义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二、农产品加工与物流标准体系构成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三、国内外农产品加工与物流标准现状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四、农产品加工与物流标准的实施与管理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543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166-2453-4121-8EDE-B2384791E7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6E9E6-15A6-436B-B25B-00E06A80CB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三、国内外农产品加工与物流标准化现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Georgia"/>
                <a:ea typeface="宋体"/>
                <a:hlinkClick r:id="rId1"/>
              </a:rPr>
              <a:t>（一）国际组织与发达国家标准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ISO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CAC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3.UNEC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4.IDF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5.IWO/OIV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发达国家标准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46392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282-412D-4C76-B9A5-1E92238908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862C7-79A3-495E-B804-411622F8B6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Georgia"/>
                <a:ea typeface="宋体"/>
                <a:hlinkClick r:id="rId1"/>
              </a:rPr>
              <a:t>（二）我国农产品加工与物流标准现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我国农产品加工与物流标准现状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我国农产品加工与物流标准体系与国外的比较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10824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BEB-5510-40AC-8AA5-95F79398D7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54D74-D1DF-4973-90A8-873E0F93BF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三）我国急需制定的农产品加工与物流标准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．加工专用原料标准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．基于全程质量控制的加工生产标准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．基于风险评估的安全限量标准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．检测方法标准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．物流配送标准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15120" y="4800600"/>
            <a:ext cx="28288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CC7-272E-456B-9F20-E6F237B634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8F6C8-081E-42F6-8E35-CE36079418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四、农产品加工与物流标准的实施与管理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加强对国际标准动态跟踪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二）开展标准培训与宣传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三）开展国标和行标普查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四）加强标准的信息化建设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DBC-E578-4653-B6B5-372F055268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C0043-0F2C-476D-A1C1-2D69AF0C7D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95480" y="1066680"/>
            <a:ext cx="39625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请批评指正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AEA-3E79-420A-ACB3-16C153AB954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7490E-7570-418B-819E-0A0E3E8F22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张德权  博士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中国农业科学院三级杰出人才                           副研究员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农业部食品及辐照产品质检中心                   办公室主任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中国保健协会食物营养与安全专业委员会   副秘书长兼常务理事</a:t>
            </a:r>
            <a:endParaRPr b="1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电话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:010-62815969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传真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:010-62829727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E-mail:dqzhang0118@126.com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6BF-011A-4209-814B-DDC071AC26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1EAD9-37A6-409A-9D43-C16FE1D58B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一、推进农产品加工与物流标准化的意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2971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一）我国农产品加工与物流现状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（二）推进农产品加工与物流标准化的意义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8880" y="1752480"/>
            <a:ext cx="163224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277-A5F5-46E8-9303-D347426C86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F0263-F3E4-4EAF-BA7B-6E569E43AF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（一）我国农产品加工与物流现状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952880"/>
            <a:ext cx="1828800" cy="990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Black"/>
                <a:ea typeface="宋体"/>
              </a:rPr>
              <a:t>农业原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1066320" y="2666880"/>
            <a:ext cx="1218960" cy="1981080"/>
          </a:xfrm>
          <a:prstGeom prst="wedgeEllipseCallout">
            <a:avLst>
              <a:gd name="adj1" fmla="val 96092"/>
              <a:gd name="adj2" fmla="val -22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前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876920"/>
            <a:ext cx="2133720" cy="1143000"/>
          </a:xfrm>
          <a:prstGeom prst="flowChartMagneticDrum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加工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105520"/>
            <a:ext cx="914400" cy="60948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5029200"/>
            <a:ext cx="16765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宋体"/>
              </a:rPr>
              <a:t>产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181480"/>
            <a:ext cx="838440" cy="609840"/>
          </a:xfrm>
          <a:custGeom>
            <a:avLst/>
            <a:gdLst>
              <a:gd name="textAreaLeft" fmla="*/ 131040 w 838440"/>
              <a:gd name="textAreaRight" fmla="*/ 733680 w 8384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200400"/>
            <a:ext cx="2286000" cy="1295280"/>
          </a:xfrm>
          <a:prstGeom prst="wedgeRoundRectCallout">
            <a:avLst>
              <a:gd name="adj1" fmla="val 277"/>
              <a:gd name="adj2" fmla="val 85537"/>
              <a:gd name="adj3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符合国家或国际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304880" y="2705040"/>
            <a:ext cx="1219320" cy="2057400"/>
          </a:xfrm>
          <a:prstGeom prst="wedgeEllipseCallout">
            <a:avLst>
              <a:gd name="adj1" fmla="val 83462"/>
              <a:gd name="adj2" fmla="val 2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加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农产品加工与物流内涵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Georgia"/>
                <a:ea typeface="宋体"/>
              </a:rPr>
              <a:t>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Georgia"/>
                <a:ea typeface="宋体"/>
              </a:rPr>
              <a:t>农产品加工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Georgia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04B-E0D2-48B0-8B26-07EBEDBB10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EC0C8-AA74-4EAD-9C25-ABA4DC629CBF}" type="datetime1">
              <a:rPr lang="en-US"/>
              <a:t>07/30/26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Georgia"/>
                <a:ea typeface="宋体"/>
              </a:rPr>
              <a:t>农产品物流：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676520"/>
            <a:ext cx="10670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物质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124080"/>
            <a:ext cx="10670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4495680"/>
            <a:ext cx="106704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  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1905120"/>
            <a:ext cx="457200" cy="609480"/>
          </a:xfrm>
          <a:custGeom>
            <a:avLst/>
            <a:gdLst>
              <a:gd name="textAreaLeft" fmla="*/ 71280 w 457200"/>
              <a:gd name="textAreaRight" fmla="*/ 400320 w 457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276720"/>
            <a:ext cx="457200" cy="609480"/>
          </a:xfrm>
          <a:custGeom>
            <a:avLst/>
            <a:gdLst>
              <a:gd name="textAreaLeft" fmla="*/ 71280 w 457200"/>
              <a:gd name="textAreaRight" fmla="*/ 400320 w 457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1828800"/>
            <a:ext cx="457200" cy="609480"/>
          </a:xfrm>
          <a:custGeom>
            <a:avLst/>
            <a:gdLst>
              <a:gd name="textAreaLeft" fmla="*/ 71280 w 457200"/>
              <a:gd name="textAreaRight" fmla="*/ 400320 w 457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209680"/>
            <a:ext cx="685800" cy="2895840"/>
          </a:xfrm>
          <a:custGeom>
            <a:avLst/>
            <a:gdLst>
              <a:gd name="textAreaLeft" fmla="*/ 201600 w 685800"/>
              <a:gd name="textAreaRight" fmla="*/ 686160 w 68580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3200400"/>
            <a:ext cx="457200" cy="609480"/>
          </a:xfrm>
          <a:custGeom>
            <a:avLst/>
            <a:gdLst>
              <a:gd name="textAreaLeft" fmla="*/ 71280 w 457200"/>
              <a:gd name="textAreaRight" fmla="*/ 400320 w 457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800600"/>
            <a:ext cx="457200" cy="609480"/>
          </a:xfrm>
          <a:custGeom>
            <a:avLst/>
            <a:gdLst>
              <a:gd name="textAreaLeft" fmla="*/ 71280 w 457200"/>
              <a:gd name="textAreaRight" fmla="*/ 400320 w 457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505320"/>
            <a:ext cx="5331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1676520"/>
            <a:ext cx="38102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贮运控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800600"/>
            <a:ext cx="457200" cy="609480"/>
          </a:xfrm>
          <a:custGeom>
            <a:avLst/>
            <a:gdLst>
              <a:gd name="textAreaLeft" fmla="*/ 71280 w 457200"/>
              <a:gd name="textAreaRight" fmla="*/ 400320 w 457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048120"/>
            <a:ext cx="38102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收集、管理与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4495680"/>
            <a:ext cx="38102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管理与资金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80" y="2819520"/>
            <a:ext cx="10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农产品物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143000"/>
            <a:ext cx="6933960" cy="5257800"/>
          </a:xfrm>
          <a:prstGeom prst="wedgeRoundRectCallout">
            <a:avLst>
              <a:gd name="adj1" fmla="val -55699"/>
              <a:gd name="adj2" fmla="val -193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农产品物流是指以满足消费者需求为目标，把产品的加工、包装、储藏、配送、装卸、信息等环节进行一体化综合，使产品安全、便捷、高效地从生产环节进入消费环节，形成完整的供应链，为用户提供多功能、一体化的综合性服务的整个过程的总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9BC-B34A-4D76-B01E-C582C98088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EFBD3-CAA5-4446-B022-A8B3D3B07F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已成为国民经济第一大支柱产业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987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增长速度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9.8%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987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年产值达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3.6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万亿元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987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全国工业部门中位居第一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987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深加工转化率逐步提高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987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产后加工转化率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8580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476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2.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农产品加工与物流现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BB3-9EDF-4C25-A568-96D51D33A4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D8A24-4B9F-4680-A3CA-ADEBF3F9D0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1219320"/>
            <a:ext cx="655344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食品工业比重上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年食品工业占农产品加工业产值的比重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居农产品加工业的第一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农业食品向工业食品转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791-AB6D-43BE-B0D2-65F028F6508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2CA4B-310D-4655-9AD8-648AEA3F55B8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现代化农产品物流开始起步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冷链开始建立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7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贮藏保鲜能力逐步提高，如苹果采后贮藏物流保鲜能力达到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24%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  <a:ea typeface="宋体"/>
              </a:rPr>
              <a:t>万吨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AC9-7B06-4C37-9F48-BF2B23EE0F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E7501-BAB5-432C-88AA-2235E37E6C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存在问题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Georgia"/>
                <a:ea typeface="宋体"/>
              </a:rPr>
              <a:t>深加工转化率低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Georgia"/>
                <a:ea typeface="宋体"/>
              </a:rPr>
              <a:t>农产品加工率（粗加工以上）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发达国家在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90%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左右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我国只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40~50%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左右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Georgia"/>
                <a:ea typeface="宋体"/>
              </a:rPr>
              <a:t>农产品深加工（二次以上加工）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发达国家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80%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我国只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20~30%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Georgia"/>
                <a:ea typeface="宋体"/>
              </a:rPr>
              <a:t>农产品加工业的产值占农业产值的比重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发达国家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倍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我国只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宋体"/>
              </a:rPr>
              <a:t>倍左右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食品科学专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AA9-19EF-4ECA-B65E-E9FD0836F9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8A3C8-5207-462E-8066-14D579E882A9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0:56:38Z</dcterms:created>
  <dc:creator>Janie Burney</dc:creator>
  <dc:description/>
  <dc:language>en-US</dc:language>
  <cp:lastModifiedBy>Lenovo User</cp:lastModifiedBy>
  <dcterms:modified xsi:type="dcterms:W3CDTF">2005-06-30T04:13:49Z</dcterms:modified>
  <cp:revision>185</cp:revision>
  <dc:subject/>
  <dc:title>Are Fruits and Vegetables Safe to Eat?</dc:title>
</cp:coreProperties>
</file>